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28.png" ContentType="image/png"/>
  <Override PartName="/ppt/media/image29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7.png" ContentType="image/png"/>
  <Override PartName="/ppt/media/image3.jpeg" ContentType="image/jpeg"/>
  <Override PartName="/ppt/media/image15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9.png" ContentType="image/pn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Kristen ITC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2DCB9-8CA1-4FAC-B57D-296493C113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07BB2-F8C8-4819-8243-430697EB35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DF5F5-09FC-4EB5-BBEF-DDB7F7DFD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1B9AE-506E-4EDD-A8B3-5721B8278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B451E-0DDE-4D09-B022-1D994F0D02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BC23E-E69C-45C1-84D5-B76A6D791F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29310-D415-4431-9640-0BFB50639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063C6-28EF-4B71-AA23-DF9D9FB86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03834-9CA1-4A9A-A35F-C4E4F66C3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0FB5C-DABD-44E9-911E-7CA756755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3BF59-A098-4B06-9133-E9D5FCA0A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8BF7B-FD86-4C0F-BC84-898E5B735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433DF-BD31-4876-892E-02AA7CA9CD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78E47-5796-4B96-B683-546449BCA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94B86-1D7A-4A3A-B9BB-54549E168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498CC-2D9D-4448-AAD0-3F0512BCB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D758B-1B70-424E-B48A-D65E53499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1FEDF-1732-4222-80F4-37BB97352A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026A3-EFF1-414F-B21C-AFA965003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A72E0-D566-418F-9090-FD5AF9D555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BD886-0DA8-4841-825C-FDCA0D0EF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CB5B8-33DB-4FD3-9CAB-95E43F3EB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8E70B-EAB9-4EC7-9939-41D8588BA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F0BFA-52B8-4F42-ADCB-112A5B8E5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9EAD8-6B8C-4A64-97A5-C4E562C6B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0E01F-79A7-4BCF-A18E-F6824E76D4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F6085-746C-4774-84C3-9B35A9FB4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1A7D2-F0DA-4BC6-B2CE-3DA3314EB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341BC-E0BC-4BD1-AC13-6D104BBD0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EA871-E7C0-458C-9034-B1F4C14292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DAE9C-DF59-4878-85E0-229F05B5A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5CA85-62F3-4D95-ACBF-62E87B531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AAB1-80D2-4598-B279-CAD8EC2C2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0BBC-3135-4378-B921-5E6E11C54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6787-6CB1-4266-A492-9585F3D08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82D4-9B28-43A2-B82D-443ADC96A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3FCA-57C4-4145-AAD9-F6AA0514C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469A-CF90-4F64-919B-9E963FDCF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1ACE-F58D-47C2-8633-3CA12CB7C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7D78-A245-402F-B526-1C5EC6CDD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E7F5-1982-40A0-8A3C-91294EFD1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6EAA-1A04-4F46-A670-F11E2F34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7E7A-6BF6-4801-9E83-C7289E0B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2B0F-B7DE-4C14-BB1D-C8381E74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Kristen ITC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7AF90-6052-4A48-8DBE-5C9F491A1E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lifeinitaly.com/food/img/Olive-oil-bottle-sm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odeldietplan.com/images/vitamins.gif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modeldietplan.com/images/vitamins.gif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zephyrus.co.uk/potassium.gif&amp;imgrefurl=http://www.zephyrus.co.uk/thereactivityseries.html&amp;h=589&amp;w=617&amp;sz=7&amp;hl=en&amp;start=13&amp;tbnid=Ztlb1fIIXEWQQM:&amp;tbnh=130&amp;tbnw=136&amp;prev=/images%3Fq%3Dpotassium%26gbv%3D2%26svnum%3D10%26hl%3Den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images.google.com/imgres?imgurl=http://www.chem4kids.com/files/elements/art/012_symbol.gif&amp;imgrefurl=http://www.chem4kids.com/files/elements/012_shells.html&amp;h=225&amp;w=440&amp;sz=15&amp;hl=en&amp;start=4&amp;tbnid=EWST59EJorryMM:&amp;tbnh=65&amp;tbnw=127&amp;prev=/images%3Fq%3Dmagnesium%2Bin%2Bperiodic%2Btable%26gbv%3D2%26svnum%3D10%26hl%3Den" TargetMode="External"/><Relationship Id="rId4" Type="http://schemas.openxmlformats.org/officeDocument/2006/relationships/image" Target="../media/image7.jpeg"/><Relationship Id="rId5" Type="http://schemas.openxmlformats.org/officeDocument/2006/relationships/hyperlink" Target="http://images.google.com/imgres?imgurl=http://www.chem4kids.com/files/elements/art/026_symbol.gif&amp;imgrefurl=http://www.chem4kids.com/files/elements/026_shells.html&amp;h=225&amp;w=440&amp;sz=14&amp;hl=en&amp;start=2&amp;tbnid=uf6S2i-6_kr51M:&amp;tbnh=65&amp;tbnw=127&amp;prev=/images%3Fq%3Diron%2Bin%2Bperiodic%2Btable%26gbv%3D2%26ndsp%3D20%26svnum%3D10%26hl%3Den%26sa%3DN" TargetMode="External"/><Relationship Id="rId6" Type="http://schemas.openxmlformats.org/officeDocument/2006/relationships/image" Target="../media/image8.jpeg"/><Relationship Id="rId7" Type="http://schemas.openxmlformats.org/officeDocument/2006/relationships/hyperlink" Target="http://images.google.com/imgres?imgurl=http://www.lm.liverpool.k12.ny.us/HyperChart/periodicchart/p.c.gifs/sodium.GIF&amp;imgrefurl=http://www.lm.liverpool.k12.ny.us/HyperChart/periodicchart/sodium.html&amp;h=431&amp;w=620&amp;sz=46&amp;hl=en&amp;start=5&amp;tbnid=q3U-m0k25ZM6SM:&amp;tbnh=95&amp;tbnw=136&amp;prev=/images%3Fq%3DSodium%26gbv%3D2%26svnum%3D10%26hl%3Den" TargetMode="External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Kristen ITC"/>
              </a:rPr>
              <a:t>Nutrition, Digestion and Excretion</a:t>
            </a: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ology 39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 3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Kristen ITC"/>
              </a:rPr>
              <a:t>How Much Energy is in the Food We Eat?</a:t>
            </a:r>
            <a:endParaRPr b="0" lang="en-US" sz="40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CALOR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sures the amount of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nerg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at is in f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ount of heat energy needed to raise the temp. of 1 mL of water by 1 degree Celsi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our food labels we se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ories (kilocalori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orie = 1000 calo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jelly bean = 3 Calories = 3000 calories!  (That’s a lot of energy!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Kristen ITC"/>
              </a:rPr>
              <a:t>Food Labels</a:t>
            </a: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7" descr="label"/>
          <p:cNvPicPr/>
          <p:nvPr/>
        </p:nvPicPr>
        <p:blipFill>
          <a:blip r:embed="rId1"/>
          <a:stretch/>
        </p:blipFill>
        <p:spPr>
          <a:xfrm>
            <a:off x="228600" y="762120"/>
            <a:ext cx="2419200" cy="5715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label-skimmilk"/>
          <p:cNvPicPr/>
          <p:nvPr/>
        </p:nvPicPr>
        <p:blipFill>
          <a:blip r:embed="rId2"/>
          <a:stretch/>
        </p:blipFill>
        <p:spPr>
          <a:xfrm>
            <a:off x="3124080" y="1676520"/>
            <a:ext cx="2911680" cy="4714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1" descr="racNutLabel"/>
          <p:cNvPicPr/>
          <p:nvPr/>
        </p:nvPicPr>
        <p:blipFill>
          <a:blip r:embed="rId3"/>
          <a:stretch/>
        </p:blipFill>
        <p:spPr>
          <a:xfrm>
            <a:off x="6629400" y="428760"/>
            <a:ext cx="227664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Kristen ITC"/>
              </a:rPr>
              <a:t>Getting the Glucose for Cell Respiration...</a:t>
            </a:r>
            <a:endParaRPr b="0" lang="en-US" sz="40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Kristen ITC"/>
              </a:rPr>
              <a:t>The Human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Kristen ITC"/>
              </a:rPr>
              <a:t>Digestive System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2819160"/>
            <a:ext cx="83808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Kristen ITC"/>
              </a:rPr>
              <a:t>Anatomy</a:t>
            </a:r>
            <a:endParaRPr b="0" lang="en-US" sz="5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4038480" y="4648320"/>
            <a:ext cx="9144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DigestSys"/>
          <p:cNvPicPr/>
          <p:nvPr/>
        </p:nvPicPr>
        <p:blipFill>
          <a:blip r:embed="rId1"/>
          <a:stretch/>
        </p:blipFill>
        <p:spPr>
          <a:xfrm>
            <a:off x="2286000" y="0"/>
            <a:ext cx="6858000" cy="663732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9"/>
          <p:cNvSpPr/>
          <p:nvPr/>
        </p:nvSpPr>
        <p:spPr>
          <a:xfrm>
            <a:off x="6172200" y="2286000"/>
            <a:ext cx="1522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5943600" y="5638680"/>
            <a:ext cx="2971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unitedstreaming.com/search/assetDetail.cfm?guidAssetID=261AD126-687E-4F76-A972-A14DD33964E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Kristen ITC"/>
              </a:rPr>
              <a:t>1.  Mouth</a:t>
            </a: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881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ysical diges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w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mical diges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livary glands release saliva which has </a:t>
            </a:r>
            <a:r>
              <a:rPr b="1" i="1" lang="en-US" sz="2800" spc="-1" strike="noStrike" u="sng">
                <a:solidFill>
                  <a:srgbClr val="99cc00"/>
                </a:solidFill>
                <a:uFillTx/>
                <a:latin typeface="Arial"/>
              </a:rPr>
              <a:t>Amyl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rch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omplex smaller sugars (malto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od spends a short time in mouth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lots left undiges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9" descr="mouth"/>
          <p:cNvPicPr/>
          <p:nvPr/>
        </p:nvPicPr>
        <p:blipFill>
          <a:blip r:embed="rId1"/>
          <a:stretch/>
        </p:blipFill>
        <p:spPr>
          <a:xfrm>
            <a:off x="6172200" y="1066680"/>
            <a:ext cx="2743200" cy="206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Kristen ITC"/>
              </a:rPr>
              <a:t>2.  Esophagus &amp; Epiglottis</a:t>
            </a:r>
            <a:endParaRPr b="0" lang="en-US" sz="40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4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ophagus connects mouth to stoma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cc00"/>
                </a:solidFill>
                <a:latin typeface="Arial"/>
              </a:rPr>
              <a:t>Peristalsi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– wavelike contracts force food dow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piglott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p door” prevents food “going down the wrong pipe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rtburn”- backflow of stomach acid into the esophag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diac spyncter- ring of muscle that keeps stomach closed when chur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8" descr="ans7_esophagus"/>
          <p:cNvPicPr/>
          <p:nvPr/>
        </p:nvPicPr>
        <p:blipFill>
          <a:blip r:embed="rId1"/>
          <a:stretch/>
        </p:blipFill>
        <p:spPr>
          <a:xfrm>
            <a:off x="5257800" y="1219320"/>
            <a:ext cx="3157560" cy="563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Kristen ITC"/>
              </a:rPr>
              <a:t>3.  Stomach</a:t>
            </a: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mical diges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ence of food trigg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99cc00"/>
                </a:solidFill>
                <a:uFillTx/>
                <a:latin typeface="Arial"/>
              </a:rPr>
              <a:t>Gastric ju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Cl + mucu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so</a:t>
            </a:r>
            <a:r>
              <a:rPr b="1" i="1" lang="en-US" sz="2000" spc="-1" strike="noStrike">
                <a:solidFill>
                  <a:srgbClr val="99cc00"/>
                </a:solidFill>
                <a:latin typeface="Arial"/>
              </a:rPr>
              <a:t> pepsi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Protein digestion begi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Proteins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lypepti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ysical diges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urning and mix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00"/>
                </a:solidFill>
                <a:latin typeface="Arial"/>
              </a:rPr>
              <a:t>Mixture is called Chy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6" descr="stomach2"/>
          <p:cNvPicPr/>
          <p:nvPr/>
        </p:nvPicPr>
        <p:blipFill>
          <a:blip r:embed="rId1"/>
          <a:stretch/>
        </p:blipFill>
        <p:spPr>
          <a:xfrm>
            <a:off x="5105520" y="1523880"/>
            <a:ext cx="3646440" cy="445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Kristen ITC"/>
              </a:rPr>
              <a:t>4. Small Intestine</a:t>
            </a: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digestion is completed by the time food leaves S.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trients absorbed into bloodstre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ening to S.I. from stomach- 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Pyloric sphinc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sections- </a:t>
            </a:r>
            <a:r>
              <a:rPr b="0" lang="en-US" sz="2400" spc="-1" strike="noStrike">
                <a:solidFill>
                  <a:srgbClr val="9999ff"/>
                </a:solidFill>
                <a:latin typeface="Arial"/>
              </a:rPr>
              <a:t>duodenum, jejunum, ile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-7 meters long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6" descr="Illustration of the regions of the small intestine"/>
          <p:cNvPicPr/>
          <p:nvPr/>
        </p:nvPicPr>
        <p:blipFill>
          <a:blip r:embed="rId1"/>
          <a:stretch/>
        </p:blipFill>
        <p:spPr>
          <a:xfrm>
            <a:off x="5105520" y="1905120"/>
            <a:ext cx="4038480" cy="438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Kristen ITC"/>
              </a:rPr>
              <a:t>Secretions </a:t>
            </a: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help digest food the liver and gall bladder and the pancreas secrete various enzymes and fluids into the small intest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the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Liver and Gall Blad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Bile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- breaks fats into smaller dropl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Liver makes it, gall bladder stores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6" descr="Def-17"/>
          <p:cNvPicPr/>
          <p:nvPr/>
        </p:nvPicPr>
        <p:blipFill>
          <a:blip r:embed="rId1"/>
          <a:stretch/>
        </p:blipFill>
        <p:spPr>
          <a:xfrm>
            <a:off x="5410080" y="45720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Kristen ITC"/>
              </a:rPr>
              <a:t>Secretions from the Pancreas</a:t>
            </a:r>
            <a:endParaRPr b="0" lang="en-US" sz="40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ncreas adds </a:t>
            </a:r>
            <a:r>
              <a:rPr b="1" i="1" lang="en-US" sz="3200" spc="-1" strike="noStrike">
                <a:solidFill>
                  <a:srgbClr val="99cc00"/>
                </a:solidFill>
                <a:latin typeface="Arial"/>
              </a:rPr>
              <a:t>pancreatic ju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ifts pH from acidic to basic – WH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00"/>
                </a:solidFill>
                <a:latin typeface="Arial"/>
              </a:rPr>
              <a:t>Trypsin (breaks down protein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lypeptides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mino aci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00"/>
                </a:solidFill>
                <a:latin typeface="Arial"/>
              </a:rPr>
              <a:t>Lipases (break down fat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pids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atty acid + glyce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00"/>
                </a:solidFill>
                <a:latin typeface="Arial"/>
              </a:rPr>
              <a:t>Amylase (breaks down starch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bs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lto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6" descr="pancreas"/>
          <p:cNvPicPr/>
          <p:nvPr/>
        </p:nvPicPr>
        <p:blipFill>
          <a:blip r:embed="rId1"/>
          <a:stretch/>
        </p:blipFill>
        <p:spPr>
          <a:xfrm>
            <a:off x="5586480" y="2666880"/>
            <a:ext cx="34592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Kristen ITC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Kristen ITC"/>
              </a:rPr>
              <a:t>Food and Nutrition </a:t>
            </a: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do we need foo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ne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ilding new molecu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tei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ell membra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NA/R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trition is the study of food and its effects on the bo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Essential Nutri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ter, Vitamins, Minerals, Fats (lipids), Proteins, Carbohydr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Kristen ITC"/>
              </a:rPr>
              <a:t>Secretions from the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Kristen ITC"/>
              </a:rPr>
              <a:t> Small Intestine</a:t>
            </a:r>
            <a:endParaRPr b="0" lang="en-US" sz="40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Maltase, sucrase, lact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eak down remaining disaccharides into monosacchari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Peptid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al breakdown of any remaining prote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Kristen ITC"/>
              </a:rPr>
              <a:t>Absorption of nutrients</a:t>
            </a: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all Intestine has increased surface ar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rcular fol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l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vil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.youtube.com/watch?v=zX4hdOPgn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4" descr="villi"/>
          <p:cNvPicPr/>
          <p:nvPr/>
        </p:nvPicPr>
        <p:blipFill>
          <a:blip r:embed="rId1"/>
          <a:stretch/>
        </p:blipFill>
        <p:spPr>
          <a:xfrm>
            <a:off x="3657600" y="2286000"/>
            <a:ext cx="4383000" cy="29718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villi"/>
          <p:cNvPicPr/>
          <p:nvPr/>
        </p:nvPicPr>
        <p:blipFill>
          <a:blip r:embed="rId2"/>
          <a:stretch/>
        </p:blipFill>
        <p:spPr>
          <a:xfrm>
            <a:off x="6858000" y="4419720"/>
            <a:ext cx="2286000" cy="22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Kristen ITC"/>
              </a:rPr>
              <a:t>5.  Large Intestine</a:t>
            </a: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4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Main function- absorption of wat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terial that remains is called Fe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teria in the colon feed on waste and produce vitamin K- symbiotic relationshi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Diarrhe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ue to illness not enough water is removed i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onstip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too much water is remov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4" descr="large_intestine"/>
          <p:cNvPicPr/>
          <p:nvPr/>
        </p:nvPicPr>
        <p:blipFill>
          <a:blip r:embed="rId1"/>
          <a:stretch/>
        </p:blipFill>
        <p:spPr>
          <a:xfrm>
            <a:off x="4724280" y="1681200"/>
            <a:ext cx="4343400" cy="426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Kristen ITC"/>
              </a:rPr>
              <a:t>6.  Rectum and Anus</a:t>
            </a: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ste ex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WordArt 4"/>
          <p:cNvSpPr txBox="1"/>
          <p:nvPr/>
        </p:nvSpPr>
        <p:spPr>
          <a:xfrm rot="21110400">
            <a:off x="2590560" y="3276720"/>
            <a:ext cx="42670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3672000"/>
                </a:gradFill>
                <a:latin typeface="Impact"/>
              </a:rPr>
              <a:t>THE END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3672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Kristen ITC"/>
              </a:rPr>
              <a:t>38-3 Excretory System</a:t>
            </a: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id waste leaves the body through the anus (end of col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bout liquid wast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of the liquid absorbed from small and large intestine enters the blood strea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then brought to the kidneys where the liquid is filtered.  This is the excretory system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Kristen ITC"/>
              </a:rPr>
              <a:t>Excretion</a:t>
            </a: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cess by which metabolic wastes are elimin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ntains homeosta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The kidne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ove waste products from the bl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ulate blood p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ulate water content of blood (blood volum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pic>
        <p:nvPicPr>
          <p:cNvPr id="128" name="Picture 4" descr="Kidney: Illustration"/>
          <p:cNvPicPr/>
          <p:nvPr/>
        </p:nvPicPr>
        <p:blipFill>
          <a:blip r:embed="rId1"/>
          <a:stretch/>
        </p:blipFill>
        <p:spPr>
          <a:xfrm>
            <a:off x="914400" y="0"/>
            <a:ext cx="7010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Kristen ITC"/>
              </a:rPr>
              <a:t>The Nephron</a:t>
            </a: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nctional units of the kidn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than 1 million nephrons in each kidney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of nephron is in the renal corte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p of Henle is in medul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5" descr="kidney_function1"/>
          <p:cNvPicPr/>
          <p:nvPr/>
        </p:nvPicPr>
        <p:blipFill>
          <a:blip r:embed="rId1"/>
          <a:stretch/>
        </p:blipFill>
        <p:spPr>
          <a:xfrm>
            <a:off x="4915080" y="2133720"/>
            <a:ext cx="4228920" cy="422892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8"/>
          <p:cNvSpPr/>
          <p:nvPr/>
        </p:nvSpPr>
        <p:spPr>
          <a:xfrm>
            <a:off x="5257800" y="56386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Loop of Hen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9"/>
          <p:cNvSpPr/>
          <p:nvPr/>
        </p:nvSpPr>
        <p:spPr>
          <a:xfrm flipV="1">
            <a:off x="6477120" y="5715000"/>
            <a:ext cx="457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Kristen ITC"/>
              </a:rPr>
              <a:t>Filtration</a:t>
            </a: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51920" y="12193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, urea, glucose,salts, amino acids and some vitamins are filtered out of the bloo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Called the filtrat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sma protein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lls and platelets remain in th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o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352320" y="2865600"/>
            <a:ext cx="5791320" cy="399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5" descr="glomerulus_illustration"/>
          <p:cNvPicPr/>
          <p:nvPr/>
        </p:nvPicPr>
        <p:blipFill>
          <a:blip r:embed="rId1"/>
          <a:stretch/>
        </p:blipFill>
        <p:spPr>
          <a:xfrm>
            <a:off x="3429000" y="3038400"/>
            <a:ext cx="571500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Kristen ITC"/>
              </a:rPr>
              <a:t>Reabsorption</a:t>
            </a: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73152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good amount of the filtrate is reabsorbed back into the capillaries surrounding the Loop of Hen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ever is left in loop is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r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Urine goes 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collecting duct 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ureter to blad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7" descr="http://www.custodiol.com/images/pageimages/3_kidney.jpg"/>
          <p:cNvPicPr/>
          <p:nvPr/>
        </p:nvPicPr>
        <p:blipFill>
          <a:blip r:embed="rId1"/>
          <a:stretch/>
        </p:blipFill>
        <p:spPr>
          <a:xfrm>
            <a:off x="5029200" y="3809880"/>
            <a:ext cx="394344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Kristen ITC"/>
              </a:rPr>
              <a:t>Water</a:t>
            </a: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y cell in the body needs water to complete many of the body’s processes and chemical re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 loss causes problems in all the bod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5" descr="water_drop"/>
          <p:cNvPicPr/>
          <p:nvPr/>
        </p:nvPicPr>
        <p:blipFill>
          <a:blip r:embed="rId1"/>
          <a:stretch/>
        </p:blipFill>
        <p:spPr>
          <a:xfrm>
            <a:off x="5029200" y="4373640"/>
            <a:ext cx="373392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Kristen ITC"/>
              </a:rPr>
              <a:t>Problems with the kidneys</a:t>
            </a: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Kidney ston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deposits of calcium, salts, or magnesium crystallize and form stones, block the ure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st be removed, very painfu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oken down until they are small enough to pas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have two kidneys but we can survive with just 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Dialysi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available when both kidneys fa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Kristen ITC"/>
              </a:rPr>
              <a:t>Video of Nephron Function</a:t>
            </a: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www.youtube.com/watch?v=glu0dzK4dbU&amp;feature=rel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Kristen ITC"/>
              </a:rPr>
              <a:t>Fats (Lipids)</a:t>
            </a: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ufacture cell membranes, produce hormones and store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cc00"/>
                </a:solidFill>
                <a:latin typeface="Arial"/>
              </a:rPr>
              <a:t>Saturat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contains only single bonds (all possible hydrogens)  eg. but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cc00"/>
                </a:solidFill>
                <a:latin typeface="Arial"/>
              </a:rPr>
              <a:t>Unsaturat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contains one or more double or triple bonds eg. olive o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5" descr="small_stick"/>
          <p:cNvPicPr/>
          <p:nvPr/>
        </p:nvPicPr>
        <p:blipFill>
          <a:blip r:embed="rId1"/>
          <a:stretch/>
        </p:blipFill>
        <p:spPr>
          <a:xfrm>
            <a:off x="533520" y="228600"/>
            <a:ext cx="1876320" cy="942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Olive-oil-bottle-sm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53080" y="4572000"/>
            <a:ext cx="1581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Kristen ITC"/>
              </a:rPr>
              <a:t>Protein</a:t>
            </a: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 body with material for grow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up parts of muscles, skin and internal org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zy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dy can naturally produce 12 of 20 amino ac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other 8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mus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 obtained from fo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ed essential amino aci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7" descr="19738"/>
          <p:cNvPicPr/>
          <p:nvPr/>
        </p:nvPicPr>
        <p:blipFill>
          <a:blip r:embed="rId1"/>
          <a:stretch/>
        </p:blipFill>
        <p:spPr>
          <a:xfrm>
            <a:off x="5715000" y="2895480"/>
            <a:ext cx="32004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ff"/>
                </a:solidFill>
                <a:latin typeface="Kristen ITC"/>
              </a:rPr>
              <a:t>Vitamins</a:t>
            </a: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ganic molecules that are needed by the body to help perform important chemical re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4 essential vitam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 typ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fat-solu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A,D,E,K)- stored in fatty tissues of the bo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water-solu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C,B)- cannot be sto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5" descr="vitamin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48520" y="228600"/>
            <a:ext cx="1981080" cy="1332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vitamin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90720" y="228600"/>
            <a:ext cx="1981080" cy="13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Kristen ITC"/>
              </a:rPr>
              <a:t>Minerals</a:t>
            </a: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organic nutrients that the body nee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nd in periodic 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: Ca (bones), Fe (needed for hemoglobin), Mg (normal function of nerves and muscl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st in sweat, urine and other waste produ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7" descr="potassiu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0120" y="5029200"/>
            <a:ext cx="1295280" cy="1238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012_symbol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95680" y="5486400"/>
            <a:ext cx="2133720" cy="10922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026_symbol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7200" y="304920"/>
            <a:ext cx="2209680" cy="11300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3" descr="sodium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781680" y="228600"/>
            <a:ext cx="1905120" cy="13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Kristen ITC"/>
              </a:rPr>
              <a:t>Carbohydrates</a:t>
            </a: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jor source of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form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 sug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ex starch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oken down into simple sugar in digestive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llulose=</a:t>
            </a:r>
            <a:r>
              <a:rPr b="0" i="1" lang="en-US" sz="2400" spc="-1" strike="noStrike">
                <a:solidFill>
                  <a:srgbClr val="00ffff"/>
                </a:solidFill>
                <a:latin typeface="Arial"/>
              </a:rPr>
              <a:t> fiber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cannot be broken down, helps process food more efficientl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5" descr="carbohydrates2"/>
          <p:cNvPicPr/>
          <p:nvPr/>
        </p:nvPicPr>
        <p:blipFill>
          <a:blip r:embed="rId1"/>
          <a:stretch/>
        </p:blipFill>
        <p:spPr>
          <a:xfrm>
            <a:off x="6762600" y="380880"/>
            <a:ext cx="2076480" cy="306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Christmas%2520Beaded%2520fruit%2520new%25208-05"/>
          <p:cNvPicPr/>
          <p:nvPr/>
        </p:nvPicPr>
        <p:blipFill>
          <a:blip r:embed="rId2"/>
          <a:stretch/>
        </p:blipFill>
        <p:spPr>
          <a:xfrm>
            <a:off x="914400" y="4952880"/>
            <a:ext cx="2895480" cy="1609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2003-10-31--Halloween_Candy"/>
          <p:cNvPicPr/>
          <p:nvPr/>
        </p:nvPicPr>
        <p:blipFill>
          <a:blip r:embed="rId3"/>
          <a:stretch/>
        </p:blipFill>
        <p:spPr>
          <a:xfrm>
            <a:off x="5943600" y="4572000"/>
            <a:ext cx="282888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Kristen ITC"/>
              </a:rPr>
              <a:t>Food and Energy</a:t>
            </a: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od contains- Carbs, Fat, Protein and Nulceic Acids   Which is our main source for energy?  Back up sourc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bs are broken down by the digestive system to the simple sugar, 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GLUCO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cells like to use glucose for cell respiration.  As a back up fatty acids and even amino acids can be used if necess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0T00:19:57Z</dcterms:created>
  <dc:creator>Brian and Megan Gallagher</dc:creator>
  <dc:description/>
  <dc:language>en-US</dc:language>
  <cp:lastModifiedBy>Preferred Customer</cp:lastModifiedBy>
  <dcterms:modified xsi:type="dcterms:W3CDTF">2009-10-22T16:01:20Z</dcterms:modified>
  <cp:revision>24</cp:revision>
  <dc:subject/>
  <dc:title>Cell resp</dc:title>
</cp:coreProperties>
</file>